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EC17-E29A-4E17-981C-2286BD12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3121-236A-48FA-A71F-65963629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7E6-33A1-4DE6-8E33-95AE5F3D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EE9-BF0E-4E04-9D9E-DED9A41A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5FB0-E938-4C46-9349-8C745B95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EAAF-7254-44B1-A634-F922DA59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292B-0765-4EA8-88CD-755D18C1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D16A-4071-4DDA-AD65-C962C393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B2BF-2E24-4F4C-904B-6F826580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95AC-A3F0-49B6-AAE9-28884CBF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6BB1-52B6-4BE8-B623-08913DE5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DA29-C485-4BC2-8B16-A350F50E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ED92-66E3-4E31-BFF4-375DDBDA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902F-6B8E-4DF6-B96D-785E3ED5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A0DE-7A14-448E-9FEB-4985AA2B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6290-7A78-4F43-86E1-90823035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03E3-FC98-4008-98F3-3B2B54C7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FA61-1717-4DF9-83FE-610B8C65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C4FB-8EE4-47A0-8B8D-57584686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2584-59A0-421E-AC17-6CAC91E6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2B6B-3DB0-4D5F-9311-E40B66F8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A81-20AF-4377-9FE0-A2C6ECCE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E15F-13EB-40C8-8685-15F67454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076-BBA7-415D-9686-D9C81F80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D559-8F34-41EE-8B14-A3820D85093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7DCB-9580-4455-A263-F6B97DC9DE9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Sport/Physical Activit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hoose a sport or physical activity that you are interested in designing a training program for, in order to improve your performanc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Training Prog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ise a Training Program consisting of the relevant Training Methods, making sure that the key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‘Training Principles’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e adhered to and applied, includ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fic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ns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gressive Overlo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overy, etc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Di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itor the Training program by keeping a diary which includes information such a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nsity (Heart Rates), Duration and Frequen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ather condi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hysical well being (Injury/Illnes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rceived exer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elings before, during and after training ses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en and What Progressive Overload is applied (Remember: Don’t exceed 10%, only overload one parameter at a time – unless program is far too eas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Mid Program Assessment (Optional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860200"/>
            <a:ext cx="7693200" cy="32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duct the Fitness Test battery again in order to monitor progress and make possib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jus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ific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le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Post-Tests (Fitness Test Battery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the end of the Training program (Given sufficient recovery time from the final session), conduct the Fitness Test Battery again, making sure that you maintain consistency in terms of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 time of d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ilar cond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 environment/surroundings/cond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907920"/>
            <a:ext cx="7354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Post-Test Resul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3747960"/>
            <a:ext cx="7693200" cy="23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are the Post-Test results to the Pre-Test and Mid-Program results (If used) by contrasting th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‘Norms’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fore and af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Evaluation of Training Progra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flect on’ and evaluate all aspects of the Training Program Design and Implementation, includ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itability of Athlete chosen to analy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thods of Data Analyses us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tness Tests chos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ining Methods chos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lication of Training Princip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y modifications ma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fluences/Factors affecting performance such as injury, illness, motivation, etc… (From Diar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Adjust/Re-set/Chan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3511080"/>
            <a:ext cx="76932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appropriate changes to the Training program and start again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1125000"/>
            <a:ext cx="74278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Set Pos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3570120"/>
            <a:ext cx="76932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interested in a team sport, choose a specific position within that team to analy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1268280"/>
            <a:ext cx="76438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Highest Stand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3808440"/>
            <a:ext cx="769320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ose the highest possible standard athlete available, in order to analyse the requirements for the sport/physical activity/set position chos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Data Colle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serve and video the chosen athlete, making sure that they are in full view at all times. Select from the following optio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ement Patter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kill Frequ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nsity Ch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R Monito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:R Ratios, etc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6438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Data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860200"/>
            <a:ext cx="7693200" cy="32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yse all of the data collected by producing Tables, Graphs, Calculations, Measurements, etc…and mak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Objec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ubjec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essments about the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Physiological Requirement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 the Sport/Physical Activity/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Pre-Tests (Fitness Test Battery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a range of Fitness Tests to carry out on yourself, making sure that the tests chosen are relevant to the findings of your analyses in regard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ergy System contrib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tness Compon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jor Muscle grou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836280"/>
            <a:ext cx="76438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Pre-Test Resul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3333240"/>
            <a:ext cx="7693200" cy="27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rify your Fitness Test results by comparing your results to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‘Norms’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bles and identifying a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‘Rating’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each test (e.g. Excellent, Poor, Average, etc...)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63280" y="907920"/>
            <a:ext cx="6923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Set 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3570120"/>
            <a:ext cx="76932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yse the Fitness Test results by looking at th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‘Ratings’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 then set realistic and achievable goals in terms of maintaining strengths and improving weakne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Training Meth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ect Specific Training Methods (usually 3-4 in combination) in order to work on achieving your set goals. Choose from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val Trai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inuous Trai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rtlek Trai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ight Trai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ircuit Trai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lexibility Trai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il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wiss Ball Training, etc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08:56:50Z</dcterms:created>
  <dc:creator>User</dc:creator>
  <dc:description/>
  <dc:language>en-US</dc:language>
  <cp:lastModifiedBy>Setup</cp:lastModifiedBy>
  <dcterms:modified xsi:type="dcterms:W3CDTF">2006-08-24T03:15:33Z</dcterms:modified>
  <cp:revision>4</cp:revision>
  <dc:subject/>
  <dc:title>Sport/Physical Activity</dc:title>
</cp:coreProperties>
</file>